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5.jpeg" ContentType="image/jpeg"/>
  <Override PartName="/ppt/media/image22.gif" ContentType="image/gif"/>
  <Override PartName="/ppt/media/image19.gif" ContentType="image/gif"/>
  <Override PartName="/ppt/media/image21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gif" ContentType="image/gif"/>
  <Override PartName="/ppt/media/image23.jpeg" ContentType="image/jpeg"/>
  <Override PartName="/ppt/media/image2.jpeg" ContentType="image/jpeg"/>
  <Override PartName="/ppt/media/image36.jpeg" ContentType="image/jpeg"/>
  <Override PartName="/ppt/media/image27.gif" ContentType="image/gif"/>
  <Override PartName="/ppt/media/image28.jpeg" ContentType="image/jpeg"/>
  <Override PartName="/ppt/media/image51.jpeg" ContentType="image/jpeg"/>
  <Override PartName="/ppt/media/image1.jpeg" ContentType="image/jpeg"/>
  <Override PartName="/ppt/media/image4.gif" ContentType="image/gif"/>
  <Override PartName="/ppt/media/image33.jpeg" ContentType="image/jpeg"/>
  <Override PartName="/ppt/media/image6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35.gif" ContentType="image/gif"/>
  <Override PartName="/ppt/media/image38.jpeg" ContentType="image/jpeg"/>
  <Override PartName="/ppt/media/image8.gif" ContentType="image/gif"/>
  <Override PartName="/ppt/media/image11.jpeg" ContentType="image/jpeg"/>
  <Override PartName="/ppt/media/image32.jpeg" ContentType="image/jpeg"/>
  <Override PartName="/ppt/media/image42.jpeg" ContentType="image/jpeg"/>
  <Override PartName="/ppt/media/image43.gif" ContentType="image/gif"/>
  <Override PartName="/ppt/media/image44.jpeg" ContentType="image/jpeg"/>
  <Override PartName="/ppt/media/image46.jpeg" ContentType="image/jpeg"/>
  <Override PartName="/ppt/media/image41.png" ContentType="image/png"/>
  <Override PartName="/ppt/media/image48.jpeg" ContentType="image/jpeg"/>
  <Override PartName="/ppt/media/image50.gif" ContentType="image/gif"/>
  <Override PartName="/ppt/media/image45.gif" ContentType="image/gif"/>
  <Override PartName="/ppt/media/image39.jpeg" ContentType="image/jpeg"/>
  <Override PartName="/ppt/media/image55.jpeg" ContentType="image/jpeg"/>
  <Override PartName="/ppt/media/image34.jpeg" ContentType="image/jpeg"/>
  <Override PartName="/ppt/media/image56.jpeg" ContentType="image/jpeg"/>
  <Override PartName="/ppt/media/image31.png" ContentType="image/png"/>
  <Override PartName="/ppt/media/image30.jpeg" ContentType="image/jpeg"/>
  <Override PartName="/ppt/media/image49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24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54.jpeg" ContentType="image/jpeg"/>
  <Override PartName="/ppt/media/image20.gif" ContentType="image/gif"/>
  <Override PartName="/ppt/media/image10.gif" ContentType="image/gif"/>
  <Override PartName="/ppt/media/image47.gif" ContentType="image/gif"/>
  <Override PartName="/ppt/media/image5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AED-1032-4FBF-B8D6-50B3895D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43D-9782-454D-9CB1-52037D91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14A-BF1E-4297-8BD1-F55C6DEB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631-416E-46D7-A867-EB08B3DA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880-3496-42E7-B2CE-50E3BF8E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A00-408F-47EC-8257-E0E7056A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F6D-4F9B-43B8-B5B6-5E689D10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6D6-5F5A-4A1B-BF19-1111E50E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C24-30A3-4438-92EB-6457E670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B16-654D-4149-8F44-734285D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495-7F36-4E4D-A150-B7559E51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412-85D3-4F9C-8279-F98E288C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A1F9-8ABB-4869-9CFD-3CE4C65E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гда тебе будет грустно, вспомни, что т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ой самый нежный, самый любимый и самый желанный человечек на всем све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1800360"/>
            <a:ext cx="4106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5256360" cy="4222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я точно знаю, пусть я где то далеко, но ты всегда думаешь обо мне и ждешь меня, посылая свои поцелу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96360" y="537372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516720" y="54936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 rot="17482800">
            <a:off x="2216160" y="601560"/>
            <a:ext cx="961920" cy="85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 rot="19974600">
            <a:off x="4858920" y="5373360"/>
            <a:ext cx="1179720" cy="1050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 rot="16200000">
            <a:off x="415800" y="2760480"/>
            <a:ext cx="961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040" y="3580920"/>
            <a:ext cx="3505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91b4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a91b4"/>
                </a:solidFill>
                <a:latin typeface="Comic Sans MS"/>
              </a:rPr>
              <a:t>Я люблю тебя, за то, что с тобой всегда так нежно 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875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пусть мы не всегда ложимся спать в одну кровать,но где бы,на каком расстоянии друг от друга мы ни были- ты всегда рядом со мной, как и я с тобой. Я рядышком, ты чувствуешь меня- я это знаю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3505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2501640" cy="4419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рой мне так тебя не хватает, что я плачу ((Я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з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ю, что скоро увижу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бя ...но все равно не могу смириться с тем , что сейчас я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е могу крепко-крепко тебя обнять((Но все равно, скоро все станет луч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740720" y="5516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3848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60f3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5960f3"/>
                </a:solidFill>
                <a:latin typeface="Comic Sans MS"/>
              </a:rPr>
              <a:t>Зато с тобой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bc3c9"/>
                </a:solidFill>
                <a:latin typeface="Comic Sans MS"/>
              </a:rPr>
              <a:t>мне </a:t>
            </a:r>
            <a:r>
              <a:rPr b="0" lang="ru-RU" sz="2800" spc="-1" strike="noStrike">
                <a:solidFill>
                  <a:srgbClr val="5960f3"/>
                </a:solidFill>
                <a:latin typeface="Comic Sans MS"/>
              </a:rPr>
              <a:t>никогда не быв</a:t>
            </a:r>
            <a:r>
              <a:rPr b="0" lang="ru-RU" sz="2800" spc="-1" strike="noStrike">
                <a:solidFill>
                  <a:srgbClr val="7bc3c9"/>
                </a:solidFill>
                <a:latin typeface="Comic Sans MS"/>
              </a:rPr>
              <a:t>ает</a:t>
            </a:r>
            <a:r>
              <a:rPr b="0" lang="ru-RU" sz="2800" spc="-1" strike="noStrike">
                <a:solidFill>
                  <a:srgbClr val="5960f3"/>
                </a:solidFill>
                <a:latin typeface="Comic Sans MS"/>
              </a:rPr>
              <a:t> одиноко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 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точно знаю, что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ес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я заболею, то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сегда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и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зешь мне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аноч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малиновго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арен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и не будешь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тход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ь от меня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целый день))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УРР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jam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17938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105520" y="2514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6699"/>
                </a:solidFill>
                <a:latin typeface="Comic Sans MS"/>
              </a:rPr>
              <a:t>Мне нравятся 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твои</a:t>
            </a:r>
            <a:r>
              <a:rPr b="0" lang="ru-RU" sz="2800" spc="-1" strike="noStrike">
                <a:solidFill>
                  <a:srgbClr val="ff6699"/>
                </a:solidFill>
                <a:latin typeface="Comic Sans MS"/>
              </a:rPr>
              <a:t> трогательн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ые</a:t>
            </a:r>
            <a:r>
              <a:rPr b="0" lang="ru-RU" sz="2800" spc="-1" strike="noStrike">
                <a:solidFill>
                  <a:srgbClr val="ff6699"/>
                </a:solidFill>
                <a:latin typeface="Comic Sans MS"/>
              </a:rPr>
              <a:t> подарки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Animals_Dogs__001805_7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Жаль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чт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 минутки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ез теб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ак будто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мира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, и время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ст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ивается в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ес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ечность, а часы в твоих объятиях убегают словно падающая звездочка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люблю тебя за твои сильные ру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твои нежные глаза, полные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36986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Comic Sans MS"/>
              </a:rPr>
              <a:t>А пока я просто решила напомнить тебе о том как сильно и за что я тебя ЛЮБЛЮ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41814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19920" y="3580920"/>
            <a:ext cx="2666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за твои сладкие поцелу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твои решительные поступки 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26622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зумно нежные объят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31622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4571640"/>
            <a:ext cx="40384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люблю т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люблю тебя за все, что в тебе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9718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486040" y="457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даже если у тебя есть маленькие минусики - я их тоже люблю, ты - ИДЕАЛ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20811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4832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ы даешь мне даже больше того, о чем я хотя бы когда-либо мечтала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380880"/>
            <a:ext cx="21254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тебе за все ...за теплоту, любовь,нежность, внимательность и за заботу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все, мой желанный и бесконечно любимый!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9640" y="1649520"/>
            <a:ext cx="404964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495680" y="3048120"/>
            <a:ext cx="464832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не без тебя не жить - ты мой смысл жиз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8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И пуст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Comic Sans MS"/>
              </a:rPr>
              <a:t>мы немног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разн</a:t>
            </a:r>
            <a:r>
              <a:rPr b="0" lang="ru-RU" sz="2800" spc="-1" strike="noStrike">
                <a:solidFill>
                  <a:srgbClr val="33cc33"/>
                </a:solidFill>
                <a:latin typeface="Comic Sans MS"/>
              </a:rPr>
              <a:t>ые, 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Я все равно люблю тебя ...до самых звез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т. Ю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2853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аль, что все не выразить словами, но, я попробую сказать тебе хотя бы одну 10000000000000000-ую из всего, что есть в тебе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41292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имый!! С тобой в моей душе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егда весна и распускаются цветы....цветы нашей любви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90920" y="2209680"/>
            <a:ext cx="34686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cccc"/>
                </a:solidFill>
                <a:latin typeface="Comic Sans MS"/>
              </a:rPr>
              <a:t>Я люблю тебя за твою нежн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67080" y="3962520"/>
            <a:ext cx="4537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твою очаровательную пушист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353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2197080" cy="1632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31240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360" y="533520"/>
            <a:ext cx="8937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omic Sans MS"/>
              </a:rPr>
              <a:t>За то что ты терпишь все мои выходки ...когда я кусаюсь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312408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И когда становлюсь маленькой,но ооооооччеееееень вредной фуся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240" y="44197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за то, что я уверена в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00200" y="533520"/>
            <a:ext cx="5900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1:39:31Z</dcterms:created>
  <dc:creator>юлия</dc:creator>
  <dc:description/>
  <dc:language>en-US</dc:language>
  <cp:lastModifiedBy>Chistyakova</cp:lastModifiedBy>
  <dcterms:modified xsi:type="dcterms:W3CDTF">2006-03-04T11:10:53Z</dcterms:modified>
  <cp:revision>12</cp:revision>
  <dc:subject/>
  <dc:title>Слайд 1</dc:title>
</cp:coreProperties>
</file>